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E74-2C75-402A-B518-956547BC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FBD-FE47-40D4-B975-BAD6CF34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DA6-E3E4-46A5-8899-631B8F88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75A-C75E-4282-89AC-BED9C979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9EEB-B701-45E3-A23B-AA5A4E20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0988-A2E2-4054-A5E9-1125DF0A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8785-E812-45F3-AC3A-1203A6AF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EB70-9A93-4CBD-8E3D-A7BC6D82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2C97-8F9A-4611-BAAB-4240A953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DC91-43CC-4223-9FC7-D0547175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1A70-2F75-4523-8B2D-B50CA6E5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966-7395-46DD-BC4E-B1515317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D86B-E14F-40BA-9C53-7E0CC673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9E29-3229-42F5-8C7C-A40DA33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E28C-4410-4B01-9987-F5E8079F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244B-121C-4CC0-A843-E1B7CF50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4A74-5A5A-4D27-9CDE-BC3F85A8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5BE-B0FE-48B9-B61F-51AB3624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B68-79BE-4453-91CF-225B1678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785-8768-4EFD-8414-4C57A490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660-0947-4394-AE02-9C7DB01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6B9-6B34-4BB6-8380-2D49FE1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6CC-B58A-4B5D-BCAC-A49949F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42C-88BA-484A-92D5-1E7185EE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2088-F3D9-4127-B299-278CEDD86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CF57-4209-4C3E-9D50-A26CBB1004D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6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mentum and Colli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Force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mpulse imparted by a force during the time interval Δt is equal to the area under the force-time graph from the beginning to the end of the time interv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, the impulse is equal to the average force multiplied by the time interval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4419720" y="5562720"/>
          <a:ext cx="186840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5562720"/>
                    <a:ext cx="186840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pulse Applied to Auto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st important factor is the collision time or the time it takes the person to come to a r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will reduce the chance of dying in a car cr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ys to increase the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t be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ba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ir Bag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bag increases the time of the coll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also absorb some of the energy from the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spread out the area of cont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es the pres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prevent penetration wou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4648320" y="2438280"/>
          <a:ext cx="44956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438280"/>
                    <a:ext cx="44956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Moment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mentum in an isolated system in which a collision occurs is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llision may be the result of physical contact between two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ct” may also arise from the electrostatic interactions of the electrons in the surface atoms of the bo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solated system will have not external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Momentum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inciple of conservation of momentum states when no external forces act on a system consisting of two objects that collide with each other, the total momentum of the system remains constant in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ically, the total momentum before the collision will equal the total momentum after the coll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Momentum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hematicall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mentum is conserved for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ystem includes all the objects interacting with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s only internal forces are acting during the coll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generalized to any number of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1758960" y="2424240"/>
          <a:ext cx="5170320" cy="54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2424240"/>
                    <a:ext cx="517032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About A Syst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 conservation of momentum applies to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must define the isolated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mentum is conserved in any coll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elastic coll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netic energy is not conser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of the kinetic energy is converted into other types of energy such as heat, sound, work to permanently deform an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ectly inelastic collisions occur when the objects stick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ll of the KE is necessarily l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Types of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astic coll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momentum and kinetic energy are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tual colli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llisions fall between elastic and perfectly inelastic coll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Perfectly Inelastic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wo objects stick together after the collision, they have undergone a perfectly inelastic coll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momentum be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752480" y="6019920"/>
                <a:ext cx="49532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8862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WOW! 3 free days to study fizzics!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5, page 155, # 6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General Notes About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mentum is a vector quant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 is impor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sure to have the correct sig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Elastic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momentum and kinetic energy are con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ypically have two unknow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the equations simultaneous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905120" y="3429000"/>
                <a:ext cx="61722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Collision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impler equation can be used in place of the KE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981080" y="3200400"/>
                <a:ext cx="4343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mmary of Types of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n elastic collision, both momentum and kinetic energy are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n inelastic collision, momentum is conserved but kinetic energy is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erfectl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elastic collision, momentum is conserved, kinetic energy is not, and the two objects stick together after the collision, so their final velocities are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One -Dimensional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ordinates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up a coordinate axis and define the velocities with respect to this 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convenient to make your axis coincide with one of the initial veloc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your sketch, draw all the velocity vectors and label the velocities and the m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One -Dimensional Collision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ervation of Momentum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Write a general expression for the total momentum of the system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coll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ate the two total momentum expre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 in the known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One -Dimensional Collision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ervation of Energy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the collision is elastic, write a second equation for conservation of KE, or the alternative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only applies to perfectly elastic coll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lve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resulting equations simultaneousl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ketches for Collision Proble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“before” and “after” sket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 each objec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the direction of velo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track of subscri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1"/>
          <a:stretch/>
        </p:blipFill>
        <p:spPr>
          <a:xfrm>
            <a:off x="5014800" y="1981080"/>
            <a:ext cx="381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ketches for Perfectly Inelastic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s stick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all the velocity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“after” collision combines the ma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5568840" y="1854360"/>
            <a:ext cx="31179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lancing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general collision of two objects in three-dimensional space, the conservation of momentum principle implies that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otal momentum of the system in each direction is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ubscripts for identifying the object, initial and final velocities, and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981080" y="3962520"/>
                <a:ext cx="5035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’m sooooo sorry!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04" name="Picture 3" descr="05P63"/>
          <p:cNvPicPr/>
          <p:nvPr/>
        </p:nvPicPr>
        <p:blipFill>
          <a:blip r:embed="rId1"/>
          <a:stretch/>
        </p:blipFill>
        <p:spPr>
          <a:xfrm>
            <a:off x="1758960" y="2017800"/>
            <a:ext cx="2733840" cy="360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182240" y="5758920"/>
            <a:ext cx="3814920" cy="3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floor as 0 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 = m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 = ½ m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- tot Ei = tot E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E =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K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3 – Kinema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4 – W =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Eto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lancing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after” velocities have x and y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mentum is conserved in the x direction and in the y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conservation of momentum separately to each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6479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Two-Dimensional Colli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ordinates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up coordinate axes and define your velocities with respect to these ax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convenient to choose the x- or y- axis to coincide with one of the initial veloc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aw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your sketch, draw and label all the velocities and m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Two-Dimensional Collision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servation of Momentum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expressions for the x and y components of the momentum of each object before and after the coll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expressions for the total momentum before and after the collision in the x-direction and in the y-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Two-Dimensional Collision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ervation of Energy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the collision is elastic, write an expression for the total energy before and after the coll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ate the two expre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 in the known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e the quadratic equ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be simpl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for Two-Dimensional Collisions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the unknown quant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e the equations simultaneous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will be two equations for inelastic coll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will be three equations for elastic coll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ocket Propul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peration of a rocket depends on the law of conservation of momentum as applied to a system, where the system is the rocket plus its ejected fu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different than propulsion on the earth where two objects exert forces on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ad on c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 on tr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ocket Propulsion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ocket is accelerated as a result of the thrust of the exhaust g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represents the inverse of an inelastic coll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mentum is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etic Energy is increased (at the expense of the stored energy of the rocket fue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ocket Propulsion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itial mass of the rocket is M + Δ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is the mass of the roc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is the mass of the fu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itial velocity of the rocket 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Object 6"/>
          <p:cNvGraphicFramePr/>
          <p:nvPr/>
        </p:nvGraphicFramePr>
        <p:xfrm>
          <a:off x="7696080" y="5562720"/>
          <a:ext cx="3924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562720"/>
                    <a:ext cx="392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3200400" y="1828800"/>
            <a:ext cx="3276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ocket Propul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cket’s mass is 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ss of the fuel, Δm, has been ej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cket’s speed has increased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0" name="Object 6"/>
          <p:cNvGraphicFramePr/>
          <p:nvPr/>
        </p:nvGraphicFramePr>
        <p:xfrm>
          <a:off x="1676520" y="6095880"/>
          <a:ext cx="13716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5880"/>
                    <a:ext cx="13716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Picture 8" descr=""/>
          <p:cNvPicPr/>
          <p:nvPr/>
        </p:nvPicPr>
        <p:blipFill>
          <a:blip r:embed="rId3"/>
          <a:stretch/>
        </p:blipFill>
        <p:spPr>
          <a:xfrm>
            <a:off x="1841400" y="2030400"/>
            <a:ext cx="53974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ocket Propulsion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sic equation for rocket propulsion 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initial mass of the rocket plus fu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final mass of the rocket plus any remaining fu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eed of the rocket is proportional to the exhaust sp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514600" y="2666880"/>
                <a:ext cx="3048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ment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inear momentum   of an object of mas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oving with a velocity   is defined as the product of the mass and the velo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nits are kg m / 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 quantity, the direction of the momentum is the same as the velocity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6172200" y="1981080"/>
          <a:ext cx="3967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981080"/>
                    <a:ext cx="396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6"/>
          <p:cNvGraphicFramePr/>
          <p:nvPr/>
        </p:nvGraphicFramePr>
        <p:xfrm>
          <a:off x="3235320" y="2895480"/>
          <a:ext cx="3920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5320" y="2895480"/>
                    <a:ext cx="392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7"/>
          <p:cNvGraphicFramePr/>
          <p:nvPr/>
        </p:nvGraphicFramePr>
        <p:xfrm>
          <a:off x="1981080" y="3886200"/>
          <a:ext cx="158760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886200"/>
                    <a:ext cx="15876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rust of a Rocke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hrust is the force exerted on the rocket by the ejected exhaust g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antaneous thrust is given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hrust increases as the exhaust speed increases and as the burn rate (ΔM/Δt) incre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666880" y="3505320"/>
                <a:ext cx="297180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f>
                          <m:num>
                            <m:r>
                              <m:t xml:space="preserve">ΔM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2,4,9,11,14,18,20,24,26,29,30, 37,43,48,50,5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mentum compone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s to two-dimensional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1600200" y="2057400"/>
                <a:ext cx="38098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puls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order to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h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momentum of an object, a force must be appl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ime rate of change of momentum of an object is equal to the net force acting on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s an alternative statement of Newton’s second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057400" y="4267080"/>
          <a:ext cx="34084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34084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pulse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 single, constant force acts on the object, there is a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ul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delivered to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defined a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 quantity, the direction is the same as the direction of th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981080" y="3505320"/>
          <a:ext cx="137160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505320"/>
                    <a:ext cx="13716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"/>
          <p:cNvGraphicFramePr/>
          <p:nvPr/>
        </p:nvGraphicFramePr>
        <p:xfrm>
          <a:off x="1981080" y="4067280"/>
          <a:ext cx="29844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67280"/>
                    <a:ext cx="298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pulse-Momentum Theor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heorem states that the impulse acting on the object is equal to the change in momentum of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force is not constant, use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verage for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ppl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981080" y="4038480"/>
          <a:ext cx="3886200" cy="5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8862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Force in Impuls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verage force can be thought of as the constant force that would give the same impulse to the object in the time interval as the actual time-varying force gives in th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5297400" y="2362320"/>
            <a:ext cx="3770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1T22:13:54Z</dcterms:created>
  <dc:creator>Marilyn Akins</dc:creator>
  <dc:description/>
  <dc:language>en-US</dc:language>
  <cp:lastModifiedBy>gandella</cp:lastModifiedBy>
  <dcterms:modified xsi:type="dcterms:W3CDTF">2009-09-21T16:24:27Z</dcterms:modified>
  <cp:revision>26</cp:revision>
  <dc:subject/>
  <dc:title>Chapter 6</dc:title>
</cp:coreProperties>
</file>